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50A8A-F683-4171-9D86-16538059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534E-17B4-4721-9482-35E402B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865F-CE93-4134-A73F-6C843A07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7213-A871-45D0-A94D-338DE06C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9D609-6C71-4725-A754-FD492C15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2457-921B-43F9-9434-0C5E62F3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D41B-1C17-4E4B-AB6E-3BE61D3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537B-CCFA-4656-A627-3A126771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ACA4-0450-437D-AB6B-0B8FE4C8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27DD-03FB-4DD6-9407-3BB7D9C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830E3-12D9-4B45-801D-771FE86B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C9C2-6474-43F3-B694-ACB790C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Texas Instruments, Berlin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C3566110-02A5-4081-855A-AA71747C2FB2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EDB-5AC5-41DB-9531-F8CC8087E8BA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" name=""/>
          <p:cNvGraphicFramePr/>
          <p:nvPr/>
        </p:nvGraphicFramePr>
        <p:xfrm>
          <a:off x="8440560" y="152280"/>
          <a:ext cx="1311480" cy="4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0560" y="152280"/>
                    <a:ext cx="13114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447920"/>
            <a:ext cx="8594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069"/>
                </a:solidFill>
                <a:latin typeface="ITC Officina Sans Book"/>
              </a:rPr>
              <a:t>Running Test Cases with</a:t>
            </a:r>
            <a:endParaRPr b="0" lang="en-US" sz="4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069"/>
                </a:solidFill>
                <a:latin typeface="ITC Officina Sans Book"/>
              </a:rPr>
              <a:t>TAPCaller</a:t>
            </a:r>
            <a:endParaRPr b="0" lang="en-US" sz="6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(an introduction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7680" y="1020240"/>
            <a:ext cx="859464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uild of test cases: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1905120"/>
            <a:ext cx="9307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oc2t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sdev / 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mk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014640" y="1992240"/>
            <a:ext cx="1054080" cy="1058040"/>
            <a:chOff x="3014640" y="1992240"/>
            <a:chExt cx="1054080" cy="1058040"/>
          </a:xfrm>
        </p:grpSpPr>
        <p:sp>
          <p:nvSpPr>
            <p:cNvPr id="146" name=""/>
            <p:cNvSpPr/>
            <p:nvPr/>
          </p:nvSpPr>
          <p:spPr>
            <a:xfrm>
              <a:off x="3162600" y="1992240"/>
              <a:ext cx="795240" cy="533880"/>
            </a:xfrm>
            <a:prstGeom prst="flowChart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253008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SAP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Docu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41360" y="2108160"/>
              <a:ext cx="84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49160" y="3886200"/>
            <a:ext cx="1106640" cy="1305720"/>
            <a:chOff x="4349160" y="3886200"/>
            <a:chExt cx="1106640" cy="1305720"/>
          </a:xfrm>
        </p:grpSpPr>
        <p:sp>
          <p:nvSpPr>
            <p:cNvPr id="150" name=""/>
            <p:cNvSpPr/>
            <p:nvPr/>
          </p:nvSpPr>
          <p:spPr>
            <a:xfrm>
              <a:off x="4409640" y="3886200"/>
              <a:ext cx="1046160" cy="789480"/>
            </a:xfrm>
            <a:prstGeom prst="flowChartMultidocumen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37720" y="4671720"/>
              <a:ext cx="986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D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069"/>
                  </a:solidFill>
                  <a:latin typeface="ITC Officina Sans Book"/>
                </a:rPr>
                <a:t>Test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574800">
              <a:off x="4349880" y="4204800"/>
              <a:ext cx="78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069"/>
                  </a:solidFill>
                  <a:latin typeface="ITC Officina Sans Book"/>
                </a:rPr>
                <a:t>GRR.d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611680" y="3100320"/>
            <a:ext cx="1649160" cy="1931040"/>
            <a:chOff x="5611680" y="3100320"/>
            <a:chExt cx="1649160" cy="1931040"/>
          </a:xfrm>
        </p:grpSpPr>
        <p:grpSp>
          <p:nvGrpSpPr>
            <p:cNvPr id="154" name=""/>
            <p:cNvGrpSpPr/>
            <p:nvPr/>
          </p:nvGrpSpPr>
          <p:grpSpPr>
            <a:xfrm>
              <a:off x="6232680" y="3898800"/>
              <a:ext cx="1028160" cy="1132560"/>
              <a:chOff x="6232680" y="3898800"/>
              <a:chExt cx="1028160" cy="11325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6358320" y="3898800"/>
                <a:ext cx="786240" cy="602280"/>
                <a:chOff x="6358320" y="3898800"/>
                <a:chExt cx="786240" cy="6022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689520" y="391752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049520" y="41522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91440" y="415224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453360" y="3983760"/>
                  <a:ext cx="161280" cy="1216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917040" y="3985920"/>
                  <a:ext cx="163080" cy="1231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453360" y="43160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21360" y="4314240"/>
                  <a:ext cx="158760" cy="1231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687720" y="44308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476400" y="3985920"/>
                  <a:ext cx="572760" cy="44460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656040" y="389880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016400" y="413064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58320" y="412848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422400" y="396252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886080" y="396252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422400" y="429480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90400" y="42904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52440" y="44053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442920" y="3966840"/>
                  <a:ext cx="575280" cy="44532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660360" y="413064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639840" y="411372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39840" y="4113720"/>
                  <a:ext cx="223200" cy="17244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25080" y="4101120"/>
                  <a:ext cx="206640" cy="16164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6232680" y="4511160"/>
                <a:ext cx="102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mpil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Link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611680" y="419112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9920" y="3100320"/>
              <a:ext cx="0" cy="63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262640" y="3733920"/>
            <a:ext cx="1896840" cy="1143000"/>
            <a:chOff x="7262640" y="3733920"/>
            <a:chExt cx="1896840" cy="1143000"/>
          </a:xfrm>
        </p:grpSpPr>
        <p:sp>
          <p:nvSpPr>
            <p:cNvPr id="182" name=""/>
            <p:cNvSpPr/>
            <p:nvPr/>
          </p:nvSpPr>
          <p:spPr>
            <a:xfrm>
              <a:off x="7262640" y="4191120"/>
              <a:ext cx="41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57280" y="3733920"/>
              <a:ext cx="140220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113360" y="1905120"/>
            <a:ext cx="1679040" cy="918720"/>
            <a:chOff x="4113360" y="1905120"/>
            <a:chExt cx="1679040" cy="918720"/>
          </a:xfrm>
        </p:grpSpPr>
        <p:sp>
          <p:nvSpPr>
            <p:cNvPr id="185" name=""/>
            <p:cNvSpPr/>
            <p:nvPr/>
          </p:nvSpPr>
          <p:spPr>
            <a:xfrm>
              <a:off x="4113360" y="2209680"/>
              <a:ext cx="34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311720" y="1905120"/>
              <a:ext cx="1480680" cy="918720"/>
              <a:chOff x="4311720" y="1905120"/>
              <a:chExt cx="1480680" cy="9187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663080" y="1905120"/>
                <a:ext cx="786240" cy="601560"/>
                <a:chOff x="4663080" y="1905120"/>
                <a:chExt cx="786240" cy="6015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94280" y="1923840"/>
                  <a:ext cx="163080" cy="7668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354280" y="215820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696200" y="2158200"/>
                  <a:ext cx="92880" cy="12096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58120" y="1989720"/>
                  <a:ext cx="161280" cy="12132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221800" y="1992240"/>
                  <a:ext cx="163080" cy="1227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58120" y="2321640"/>
                  <a:ext cx="16128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226120" y="2319840"/>
                  <a:ext cx="158760" cy="1227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92480" y="2436480"/>
                  <a:ext cx="158760" cy="702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1160" y="1992240"/>
                  <a:ext cx="572760" cy="4442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960800" y="1905120"/>
                  <a:ext cx="159480" cy="6984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321160" y="2136600"/>
                  <a:ext cx="96840" cy="12348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63080" y="2134440"/>
                  <a:ext cx="95040" cy="12528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27160" y="1968480"/>
                  <a:ext cx="159480" cy="12096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190840" y="1968480"/>
                  <a:ext cx="158760" cy="1234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7160" y="2300760"/>
                  <a:ext cx="163440" cy="12096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195160" y="2296080"/>
                  <a:ext cx="158760" cy="12528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57200" y="2410920"/>
                  <a:ext cx="158760" cy="7452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47680" y="1972800"/>
                  <a:ext cx="575280" cy="44460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65120" y="2136600"/>
                  <a:ext cx="212760" cy="16596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44600" y="2119680"/>
                  <a:ext cx="212760" cy="165960"/>
                </a:xfrm>
                <a:prstGeom prst="ellipse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944600" y="2119680"/>
                  <a:ext cx="223200" cy="172080"/>
                </a:xfrm>
                <a:prstGeom prst="ellipse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929840" y="2107080"/>
                  <a:ext cx="206640" cy="161280"/>
                </a:xfrm>
                <a:prstGeom prst="ellipse">
                  <a:avLst/>
                </a:prstGeom>
                <a:solidFill>
                  <a:srgbClr val="cecece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4311720" y="2516760"/>
                <a:ext cx="1480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“</a:t>
                </a: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makcdg tdclib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5611680" y="1752480"/>
            <a:ext cx="2288880" cy="1310760"/>
            <a:chOff x="5611680" y="1752480"/>
            <a:chExt cx="2288880" cy="1310760"/>
          </a:xfrm>
        </p:grpSpPr>
        <p:grpSp>
          <p:nvGrpSpPr>
            <p:cNvPr id="212" name=""/>
            <p:cNvGrpSpPr/>
            <p:nvPr/>
          </p:nvGrpSpPr>
          <p:grpSpPr>
            <a:xfrm>
              <a:off x="5889600" y="1752480"/>
              <a:ext cx="2010960" cy="1310760"/>
              <a:chOff x="5889600" y="1752480"/>
              <a:chExt cx="2010960" cy="1310760"/>
            </a:xfrm>
          </p:grpSpPr>
          <p:sp>
            <p:nvSpPr>
              <p:cNvPr id="213" name=""/>
              <p:cNvSpPr/>
              <p:nvPr/>
            </p:nvSpPr>
            <p:spPr>
              <a:xfrm>
                <a:off x="6290640" y="1752480"/>
                <a:ext cx="1218960" cy="789120"/>
              </a:xfrm>
              <a:prstGeom prst="flowChartMultidocumen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89600" y="2543040"/>
                <a:ext cx="201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rimitive / Messag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Constants and Stru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21574800">
                <a:off x="6248880" y="2050560"/>
                <a:ext cx="109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3069"/>
                    </a:solidFill>
                    <a:latin typeface="ITC Officina Sans Book"/>
                  </a:rPr>
                  <a:t>p_grr_val.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611680" y="2209680"/>
              <a:ext cx="577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0840" y="51814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For more informations se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protocol_stack_testing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</a:t>
            </a: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8415_028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Selec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79440" y="990720"/>
            <a:ext cx="9362880" cy="4352760"/>
            <a:chOff x="379440" y="990720"/>
            <a:chExt cx="9362880" cy="43527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560920" y="990720"/>
              <a:ext cx="418140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79440" y="16765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99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tart tapcaller.bat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 </a:t>
              </a:r>
              <a:r>
                <a:rPr b="0" lang="en-US" sz="2000" spc="-1" strike="noStrike">
                  <a:solidFill>
                    <a:srgbClr val="003069"/>
                  </a:solidFill>
                  <a:latin typeface="ITC Officina Sans Book"/>
                </a:rPr>
                <a:t>(ClearCase: \gpf\BIN\tapcaller.ba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79440" y="4221000"/>
            <a:ext cx="373392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enable testcases</a:t>
            </a:r>
            <a:br>
              <a:rPr sz="2800"/>
            </a:b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from DLL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79440" y="1371600"/>
            <a:ext cx="7843680" cy="5181480"/>
            <a:chOff x="379440" y="1371600"/>
            <a:chExt cx="7843680" cy="5181480"/>
          </a:xfrm>
        </p:grpSpPr>
        <p:sp>
          <p:nvSpPr>
            <p:cNvPr id="225" name=""/>
            <p:cNvSpPr/>
            <p:nvPr/>
          </p:nvSpPr>
          <p:spPr>
            <a:xfrm>
              <a:off x="379440" y="3154320"/>
              <a:ext cx="37339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choose dire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417920" y="1371600"/>
              <a:ext cx="3805200" cy="5181480"/>
              <a:chOff x="4417920" y="1371600"/>
              <a:chExt cx="3805200" cy="5181480"/>
            </a:xfrm>
          </p:grpSpPr>
          <p:pic>
            <p:nvPicPr>
              <p:cNvPr id="2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3920" y="1371600"/>
                <a:ext cx="86832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 flipH="1">
                <a:off x="6474960" y="1523880"/>
                <a:ext cx="38124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7920" y="1981080"/>
                <a:ext cx="380520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"/>
              <p:cNvSpPr/>
              <p:nvPr/>
            </p:nvSpPr>
            <p:spPr>
              <a:xfrm flipH="1">
                <a:off x="7389360" y="1523880"/>
                <a:ext cx="304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3732120" y="274284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 flipV="1">
            <a:off x="3503520" y="380988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rotocol stack (PS) selection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5" name=""/>
          <p:cNvSpPr/>
          <p:nvPr/>
        </p:nvSpPr>
        <p:spPr>
          <a:xfrm>
            <a:off x="379440" y="1676520"/>
            <a:ext cx="609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Start a protocol stack by your own, e.g. inside VisualStudi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79440" y="1066680"/>
            <a:ext cx="9134280" cy="5486400"/>
            <a:chOff x="379440" y="1066680"/>
            <a:chExt cx="9134280" cy="5486400"/>
          </a:xfrm>
        </p:grpSpPr>
        <p:pic>
          <p:nvPicPr>
            <p:cNvPr id="237" name="" descr=""/>
            <p:cNvPicPr/>
            <p:nvPr/>
          </p:nvPicPr>
          <p:blipFill>
            <a:blip r:embed="rId1"/>
            <a:stretch/>
          </p:blipFill>
          <p:spPr>
            <a:xfrm>
              <a:off x="6703920" y="1066680"/>
              <a:ext cx="2809800" cy="435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4417920" y="2590920"/>
              <a:ext cx="32990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79440" y="2819520"/>
              <a:ext cx="373392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or specify an executabl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03520" y="3429000"/>
              <a:ext cx="182880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3"/>
            <a:stretch/>
          </p:blipFill>
          <p:spPr>
            <a:xfrm>
              <a:off x="7846920" y="1447920"/>
              <a:ext cx="8683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flipH="1">
              <a:off x="6246360" y="1523880"/>
              <a:ext cx="17528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085160" y="1600200"/>
              <a:ext cx="1828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79440" y="3809880"/>
            <a:ext cx="4495680" cy="2675160"/>
            <a:chOff x="379440" y="3809880"/>
            <a:chExt cx="4495680" cy="2675160"/>
          </a:xfrm>
        </p:grpSpPr>
        <p:sp>
          <p:nvSpPr>
            <p:cNvPr id="245" name=""/>
            <p:cNvSpPr/>
            <p:nvPr/>
          </p:nvSpPr>
          <p:spPr>
            <a:xfrm>
              <a:off x="379440" y="3809880"/>
              <a:ext cx="40384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lvl="1" marL="594360" indent="-228600">
                <a:lnSpc>
                  <a:spcPct val="100000"/>
                </a:lnSpc>
                <a:spcBef>
                  <a:spcPts val="601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enable automatic start of PS </a:t>
              </a:r>
              <a:r>
                <a:rPr b="0" lang="de-DE" sz="2400" spc="-1" strike="noStrike">
                  <a:solidFill>
                    <a:srgbClr val="003069"/>
                  </a:solidFill>
                  <a:latin typeface="ITC Officina Sans Book"/>
                </a:rPr>
                <a:t>(before each test case executio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0360" y="5181480"/>
              <a:ext cx="190476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"/>
            <a:stretch/>
          </p:blipFill>
          <p:spPr>
            <a:xfrm>
              <a:off x="455760" y="5791320"/>
              <a:ext cx="36097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>
              <a:off x="2436480" y="518148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60240" y="2057400"/>
            <a:ext cx="2004840" cy="3580560"/>
            <a:chOff x="660240" y="2057400"/>
            <a:chExt cx="2004840" cy="3580560"/>
          </a:xfrm>
        </p:grpSpPr>
        <p:sp>
          <p:nvSpPr>
            <p:cNvPr id="250" name=""/>
            <p:cNvSpPr/>
            <p:nvPr/>
          </p:nvSpPr>
          <p:spPr>
            <a:xfrm>
              <a:off x="660240" y="2057400"/>
              <a:ext cx="2001240" cy="35805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8120" y="4274280"/>
              <a:ext cx="1236960" cy="1363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6" name=""/>
          <p:cNvSpPr/>
          <p:nvPr/>
        </p:nvSpPr>
        <p:spPr>
          <a:xfrm>
            <a:off x="8228160" y="1676520"/>
            <a:ext cx="895320" cy="228600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6360" y="3095640"/>
            <a:ext cx="2971440" cy="2543040"/>
            <a:chOff x="5256360" y="3095640"/>
            <a:chExt cx="2971440" cy="2543040"/>
          </a:xfrm>
        </p:grpSpPr>
        <p:grpSp>
          <p:nvGrpSpPr>
            <p:cNvPr id="258" name=""/>
            <p:cNvGrpSpPr/>
            <p:nvPr/>
          </p:nvGrpSpPr>
          <p:grpSpPr>
            <a:xfrm>
              <a:off x="5256360" y="3124080"/>
              <a:ext cx="1676160" cy="2514600"/>
              <a:chOff x="5256360" y="3124080"/>
              <a:chExt cx="1676160" cy="2514600"/>
            </a:xfrm>
          </p:grpSpPr>
          <p:sp>
            <p:nvSpPr>
              <p:cNvPr id="259" name=""/>
              <p:cNvSpPr/>
              <p:nvPr/>
            </p:nvSpPr>
            <p:spPr>
              <a:xfrm>
                <a:off x="5256360" y="3124080"/>
                <a:ext cx="1676160" cy="251460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56360" y="4495680"/>
                <a:ext cx="1066680" cy="11430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H="1">
              <a:off x="6932160" y="35053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2640" y="3095640"/>
              <a:ext cx="75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8075520" y="4495680"/>
            <a:ext cx="1067040" cy="11430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db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2520" y="5181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722840" y="1447920"/>
            <a:ext cx="2362320" cy="1676160"/>
            <a:chOff x="4722840" y="1447920"/>
            <a:chExt cx="2362320" cy="1676160"/>
          </a:xfrm>
        </p:grpSpPr>
        <p:sp>
          <p:nvSpPr>
            <p:cNvPr id="266" name=""/>
            <p:cNvSpPr/>
            <p:nvPr/>
          </p:nvSpPr>
          <p:spPr>
            <a:xfrm>
              <a:off x="47991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R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799160" y="1905120"/>
              <a:ext cx="685800" cy="38088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84960" y="1523880"/>
              <a:ext cx="685800" cy="3812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722840" y="1447920"/>
              <a:ext cx="2362320" cy="1676160"/>
              <a:chOff x="4722840" y="1447920"/>
              <a:chExt cx="2362320" cy="167616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6018120" y="23623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722840" y="1447920"/>
                <a:ext cx="2362320" cy="9144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Tr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ff0000"/>
                    </a:solidFill>
                    <a:latin typeface="Times New Roman"/>
                  </a:rPr>
                  <a:t>window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2665440" y="2819520"/>
            <a:ext cx="2590920" cy="2898000"/>
            <a:chOff x="2665440" y="2819520"/>
            <a:chExt cx="2590920" cy="2898000"/>
          </a:xfrm>
        </p:grpSpPr>
        <p:sp>
          <p:nvSpPr>
            <p:cNvPr id="273" name=""/>
            <p:cNvSpPr/>
            <p:nvPr/>
          </p:nvSpPr>
          <p:spPr>
            <a:xfrm>
              <a:off x="2665440" y="48006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27040" y="434340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primiti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59240" y="525780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665440" y="5257800"/>
              <a:ext cx="2590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0720" y="2819520"/>
              <a:ext cx="1295640" cy="1143000"/>
            </a:xfrm>
            <a:prstGeom prst="rect">
              <a:avLst/>
            </a:prstGeom>
            <a:solidFill>
              <a:srgbClr val="33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stcase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"/>
          <p:cNvSpPr/>
          <p:nvPr/>
        </p:nvSpPr>
        <p:spPr>
          <a:xfrm>
            <a:off x="2970360" y="51814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27040" y="472428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5638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5440" y="563868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76840" y="4511520"/>
            <a:ext cx="7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724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046320" y="10666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618320" y="1066680"/>
            <a:ext cx="2075040" cy="4362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951440" y="4648320"/>
            <a:ext cx="990720" cy="144756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tap2_gprs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941800" y="30481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5760" y="914400"/>
            <a:ext cx="9219960" cy="5200560"/>
            <a:chOff x="455760" y="914400"/>
            <a:chExt cx="9219960" cy="520056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6492960" y="914400"/>
              <a:ext cx="3182760" cy="505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2"/>
            <a:stretch/>
          </p:blipFill>
          <p:spPr>
            <a:xfrm>
              <a:off x="5408640" y="1981080"/>
              <a:ext cx="327672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flipH="1">
              <a:off x="6017760" y="137160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5000"/>
            </a:bodyPr>
            <a:p>
              <a:pPr lvl="1" marL="705600" indent="-2714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TAP executable which has to be rebuild after each makcdg call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5120" y="22860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55760" y="2895480"/>
            <a:ext cx="6553080" cy="1905120"/>
            <a:chOff x="455760" y="2895480"/>
            <a:chExt cx="6553080" cy="1905120"/>
          </a:xfrm>
        </p:grpSpPr>
        <p:sp>
          <p:nvSpPr>
            <p:cNvPr id="302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3581280"/>
              <a:ext cx="33526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5760" y="3580920"/>
            <a:ext cx="5943600" cy="2743560"/>
            <a:chOff x="455760" y="3580920"/>
            <a:chExt cx="5943600" cy="2743560"/>
          </a:xfrm>
        </p:grpSpPr>
        <p:sp>
          <p:nvSpPr>
            <p:cNvPr id="305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808440" y="3580920"/>
              <a:ext cx="25909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"/>
          <p:cNvGrpSpPr/>
          <p:nvPr/>
        </p:nvGrpSpPr>
        <p:grpSpPr>
          <a:xfrm>
            <a:off x="379440" y="3733920"/>
            <a:ext cx="1736280" cy="2209320"/>
            <a:chOff x="379440" y="3733920"/>
            <a:chExt cx="1736280" cy="2209320"/>
          </a:xfrm>
        </p:grpSpPr>
        <p:sp>
          <p:nvSpPr>
            <p:cNvPr id="308" name=""/>
            <p:cNvSpPr/>
            <p:nvPr/>
          </p:nvSpPr>
          <p:spPr>
            <a:xfrm>
              <a:off x="379440" y="3733920"/>
              <a:ext cx="1733400" cy="2209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4360" y="5101560"/>
              <a:ext cx="107136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649680" y="5029200"/>
            <a:ext cx="92088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83560" y="4876920"/>
            <a:ext cx="138744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flow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5" name=""/>
          <p:cNvSpPr/>
          <p:nvPr/>
        </p:nvSpPr>
        <p:spPr>
          <a:xfrm>
            <a:off x="7846920" y="990720"/>
            <a:ext cx="1219320" cy="2590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89320" y="2514600"/>
            <a:ext cx="3657240" cy="1905120"/>
            <a:chOff x="4189320" y="2514600"/>
            <a:chExt cx="3657240" cy="1905120"/>
          </a:xfrm>
        </p:grpSpPr>
        <p:sp>
          <p:nvSpPr>
            <p:cNvPr id="317" name=""/>
            <p:cNvSpPr/>
            <p:nvPr/>
          </p:nvSpPr>
          <p:spPr>
            <a:xfrm>
              <a:off x="4189320" y="2819520"/>
              <a:ext cx="1295640" cy="1600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TA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84600" y="29718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60920" y="2514600"/>
              <a:ext cx="70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304120" y="3886200"/>
            <a:ext cx="1295640" cy="2057400"/>
            <a:chOff x="8304120" y="3886200"/>
            <a:chExt cx="1295640" cy="2057400"/>
          </a:xfrm>
        </p:grpSpPr>
        <p:sp>
          <p:nvSpPr>
            <p:cNvPr id="321" name=""/>
            <p:cNvSpPr/>
            <p:nvPr/>
          </p:nvSpPr>
          <p:spPr>
            <a:xfrm>
              <a:off x="8761320" y="3886200"/>
              <a:ext cx="838440" cy="83808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.db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685360" y="5029200"/>
              <a:ext cx="91440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 </a:t>
              </a:r>
              <a:br>
                <a:rPr sz="2400"/>
              </a:b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og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304120" y="5715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304120" y="4419720"/>
              <a:ext cx="4572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20728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237440" y="4267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84760" y="1143000"/>
            <a:ext cx="3504600" cy="3733560"/>
            <a:chOff x="3884760" y="1143000"/>
            <a:chExt cx="3504600" cy="3733560"/>
          </a:xfrm>
        </p:grpSpPr>
        <p:grpSp>
          <p:nvGrpSpPr>
            <p:cNvPr id="329" name=""/>
            <p:cNvGrpSpPr/>
            <p:nvPr/>
          </p:nvGrpSpPr>
          <p:grpSpPr>
            <a:xfrm>
              <a:off x="5713560" y="1143000"/>
              <a:ext cx="1675800" cy="1219320"/>
              <a:chOff x="5713560" y="1143000"/>
              <a:chExt cx="1675800" cy="1219320"/>
            </a:xfrm>
          </p:grpSpPr>
          <p:sp>
            <p:nvSpPr>
              <p:cNvPr id="330" name=""/>
              <p:cNvSpPr/>
              <p:nvPr/>
            </p:nvSpPr>
            <p:spPr>
              <a:xfrm>
                <a:off x="5713560" y="1295640"/>
                <a:ext cx="1512720" cy="106668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91400" y="1143000"/>
                <a:ext cx="149796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884760" y="18288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7008840" y="2361960"/>
              <a:ext cx="0" cy="2514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80880" y="3581280"/>
              <a:ext cx="1305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duplicate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rimitives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751040" y="1600200"/>
            <a:ext cx="5148360" cy="4410360"/>
            <a:chOff x="1751040" y="1600200"/>
            <a:chExt cx="5148360" cy="4410360"/>
          </a:xfrm>
        </p:grpSpPr>
        <p:grpSp>
          <p:nvGrpSpPr>
            <p:cNvPr id="336" name=""/>
            <p:cNvGrpSpPr/>
            <p:nvPr/>
          </p:nvGrpSpPr>
          <p:grpSpPr>
            <a:xfrm>
              <a:off x="2131920" y="2514600"/>
              <a:ext cx="4767480" cy="3495960"/>
              <a:chOff x="2131920" y="2514600"/>
              <a:chExt cx="4767480" cy="3495960"/>
            </a:xfrm>
          </p:grpSpPr>
          <p:sp>
            <p:nvSpPr>
              <p:cNvPr id="337" name=""/>
              <p:cNvSpPr/>
              <p:nvPr/>
            </p:nvSpPr>
            <p:spPr>
              <a:xfrm>
                <a:off x="4502520" y="44974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131920" y="533412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59080" y="492588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3520" y="561168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131920" y="5638680"/>
                <a:ext cx="1524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4240" y="4419720"/>
                <a:ext cx="0" cy="609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70560" y="5562720"/>
                <a:ext cx="2328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94040" y="2514600"/>
                <a:ext cx="1295280" cy="1143000"/>
              </a:xfrm>
              <a:prstGeom prst="rect">
                <a:avLst/>
              </a:prstGeom>
              <a:solidFill>
                <a:srgbClr val="3366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Testcase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29640" y="55357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tra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0280" y="5165640"/>
                <a:ext cx="233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51040" y="1600200"/>
              <a:ext cx="21445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86520" y="1768320"/>
              <a:ext cx="1352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br>
                <a:rPr sz="2400"/>
              </a:b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interp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4760" y="1981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unn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0360" y="51814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3200" y="457200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18120" y="55627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65440" y="563868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7920" y="3581280"/>
            <a:ext cx="990720" cy="91440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A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ap2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7920" y="4952880"/>
            <a:ext cx="990720" cy="990720"/>
          </a:xfrm>
          <a:prstGeom prst="rect">
            <a:avLst/>
          </a:prstGeom>
          <a:solidFill>
            <a:srgbClr val="008000">
              <a:alpha val="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tst.ex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0840" y="3809880"/>
            <a:ext cx="2819520" cy="21924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859360" y="609588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408280" y="2895480"/>
            <a:ext cx="2590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2438280"/>
            <a:ext cx="70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57056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436840" y="914400"/>
            <a:ext cx="4267080" cy="4800600"/>
            <a:chOff x="2436840" y="914400"/>
            <a:chExt cx="4267080" cy="4800600"/>
          </a:xfrm>
        </p:grpSpPr>
        <p:sp>
          <p:nvSpPr>
            <p:cNvPr id="369" name=""/>
            <p:cNvSpPr/>
            <p:nvPr/>
          </p:nvSpPr>
          <p:spPr>
            <a:xfrm>
              <a:off x="2436840" y="93024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CO-Vie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4"/>
            <a:stretch/>
          </p:blipFill>
          <p:spPr>
            <a:xfrm>
              <a:off x="3427560" y="914400"/>
              <a:ext cx="31240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 flipH="1" flipV="1">
              <a:off x="5789520" y="2895480"/>
              <a:ext cx="914400" cy="28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5408640" y="57913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4840" y="48006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88920" y="6095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napshot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testcase</a:t>
            </a:r>
            <a:br>
              <a:rPr sz="2000"/>
            </a:br>
            <a:r>
              <a:rPr b="0" lang="de-DE" sz="2000" spc="-1" strike="noStrike">
                <a:solidFill>
                  <a:srgbClr val="003069"/>
                </a:solidFill>
                <a:latin typeface="ITC Officina Sans Book"/>
              </a:rPr>
              <a:t>repla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627960" y="5562720"/>
            <a:ext cx="1096920" cy="479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770960" y="54259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7510320" y="838080"/>
            <a:ext cx="2183040" cy="4591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4037040" y="609588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856200" y="2971800"/>
            <a:ext cx="11430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37240" y="38862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99160" y="3276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-Vie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3427560" y="914400"/>
            <a:ext cx="3124080" cy="2395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 flipH="1" flipV="1">
            <a:off x="5789520" y="2895480"/>
            <a:ext cx="914400" cy="2819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79320" y="434340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es,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uplicate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08040" y="2743200"/>
            <a:ext cx="4191120" cy="3213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 flipH="1" flipV="1">
            <a:off x="4036680" y="5028840"/>
            <a:ext cx="25909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1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5760" y="990720"/>
            <a:ext cx="8943840" cy="5410080"/>
            <a:chOff x="455760" y="990720"/>
            <a:chExt cx="8943840" cy="5410080"/>
          </a:xfrm>
        </p:grpSpPr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5789520" y="990720"/>
              <a:ext cx="3610080" cy="41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55760" y="15238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select path to tap2.exe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4518000" y="2057400"/>
              <a:ext cx="31003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3427560" y="1981080"/>
              <a:ext cx="13716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170760" y="19051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5760" y="2895480"/>
            <a:ext cx="4800600" cy="2895840"/>
            <a:chOff x="455760" y="2895480"/>
            <a:chExt cx="4800600" cy="2895840"/>
          </a:xfrm>
        </p:grpSpPr>
        <p:sp>
          <p:nvSpPr>
            <p:cNvPr id="398" name=""/>
            <p:cNvSpPr/>
            <p:nvPr/>
          </p:nvSpPr>
          <p:spPr>
            <a:xfrm>
              <a:off x="455760" y="2895480"/>
              <a:ext cx="4800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deselect </a:t>
              </a:r>
              <a:br>
                <a:rPr sz="2800"/>
              </a:b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„old TAP“-mo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32120" y="3581280"/>
              <a:ext cx="106704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5760" y="4267080"/>
            <a:ext cx="4343400" cy="2057400"/>
            <a:chOff x="455760" y="4267080"/>
            <a:chExt cx="4343400" cy="2057400"/>
          </a:xfrm>
        </p:grpSpPr>
        <p:sp>
          <p:nvSpPr>
            <p:cNvPr id="401" name=""/>
            <p:cNvSpPr/>
            <p:nvPr/>
          </p:nvSpPr>
          <p:spPr>
            <a:xfrm>
              <a:off x="455760" y="4297320"/>
              <a:ext cx="3798720" cy="20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modify communication type, if testing with a real targ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732120" y="4267080"/>
              <a:ext cx="1067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old TAP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Usage with TAP2 and PCO2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usage with TAP2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(2)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55760" y="914400"/>
            <a:ext cx="9172440" cy="5657760"/>
            <a:chOff x="455760" y="914400"/>
            <a:chExt cx="9172440" cy="5657760"/>
          </a:xfrm>
        </p:grpSpPr>
        <p:grpSp>
          <p:nvGrpSpPr>
            <p:cNvPr id="406" name=""/>
            <p:cNvGrpSpPr/>
            <p:nvPr/>
          </p:nvGrpSpPr>
          <p:grpSpPr>
            <a:xfrm>
              <a:off x="455760" y="914400"/>
              <a:ext cx="9172440" cy="5657760"/>
              <a:chOff x="455760" y="914400"/>
              <a:chExt cx="9172440" cy="5657760"/>
            </a:xfrm>
          </p:grpSpPr>
          <p:pic>
            <p:nvPicPr>
              <p:cNvPr id="40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18120" y="914400"/>
                <a:ext cx="3610080" cy="41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455760" y="1523880"/>
                <a:ext cx="4952880" cy="137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0063ce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3069"/>
                    </a:solidFill>
                    <a:latin typeface="ITC Officina Sans Book"/>
                  </a:rPr>
                  <a:t>enable logging with PCO ..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84960" y="1981080"/>
                <a:ext cx="3276360" cy="45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494240" y="205740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 flipH="1">
              <a:off x="6780240" y="1828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55760" y="2362320"/>
            <a:ext cx="5410080" cy="1371600"/>
            <a:chOff x="455760" y="2362320"/>
            <a:chExt cx="5410080" cy="1371600"/>
          </a:xfrm>
        </p:grpSpPr>
        <p:sp>
          <p:nvSpPr>
            <p:cNvPr id="413" name=""/>
            <p:cNvSpPr/>
            <p:nvPr/>
          </p:nvSpPr>
          <p:spPr>
            <a:xfrm>
              <a:off x="455760" y="2362320"/>
              <a:ext cx="4952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2000"/>
            </a:bodyPr>
            <a:p>
              <a:pPr lvl="1" marL="683280" indent="-2628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and choose path to PCO executables (should be the same as for tap2.ex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4494240" y="3200040"/>
              <a:ext cx="1371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5760" y="4038480"/>
            <a:ext cx="5410080" cy="2286000"/>
            <a:chOff x="455760" y="4038480"/>
            <a:chExt cx="5410080" cy="2286000"/>
          </a:xfrm>
        </p:grpSpPr>
        <p:sp>
          <p:nvSpPr>
            <p:cNvPr id="416" name=""/>
            <p:cNvSpPr/>
            <p:nvPr/>
          </p:nvSpPr>
          <p:spPr>
            <a:xfrm>
              <a:off x="455760" y="4038480"/>
              <a:ext cx="47242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7000"/>
            </a:bodyPr>
            <a:p>
              <a:pPr lvl="1" marL="720720" indent="-27720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evtl. select a viewer configuration, with which a PCO-Viewer should be started while running testcase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7920" y="419076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020600"/>
            <a:ext cx="81979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xecutables and DLLs: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09480" y="1066680"/>
            <a:ext cx="8913960" cy="5334120"/>
            <a:chOff x="609480" y="1066680"/>
            <a:chExt cx="8913960" cy="5334120"/>
          </a:xfrm>
        </p:grpSpPr>
        <p:grpSp>
          <p:nvGrpSpPr>
            <p:cNvPr id="421" name=""/>
            <p:cNvGrpSpPr/>
            <p:nvPr/>
          </p:nvGrpSpPr>
          <p:grpSpPr>
            <a:xfrm>
              <a:off x="609480" y="1066680"/>
              <a:ext cx="8913960" cy="5334120"/>
              <a:chOff x="609480" y="1066680"/>
              <a:chExt cx="8913960" cy="5334120"/>
            </a:xfrm>
          </p:grpSpPr>
          <p:sp>
            <p:nvSpPr>
              <p:cNvPr id="422" name=""/>
              <p:cNvSpPr/>
              <p:nvPr/>
            </p:nvSpPr>
            <p:spPr>
              <a:xfrm>
                <a:off x="609480" y="5638680"/>
                <a:ext cx="8913960" cy="76212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Windows, Linux, 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9480" y="5029200"/>
                <a:ext cx="7008840" cy="609480"/>
              </a:xfrm>
              <a:prstGeom prst="rect">
                <a:avLst/>
              </a:prstGeom>
              <a:solidFill>
                <a:srgbClr val="ff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VCMS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ms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9480" y="3505320"/>
                <a:ext cx="3124440" cy="15238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FR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rame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f_wn.dll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sc_wn.dl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9480" y="2590920"/>
                <a:ext cx="121932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TS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st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57400" y="1752480"/>
                <a:ext cx="1676520" cy="1752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p2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DE" sz="2000" spc="-1" strike="noStrike">
                    <a:solidFill>
                      <a:srgbClr val="000000"/>
                    </a:solidFill>
                    <a:latin typeface="Times New Roman"/>
                  </a:rPr>
                  <a:t>(tap2_gprs.ex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86200" y="3657600"/>
                <a:ext cx="1905120" cy="13716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srv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42160" y="3657600"/>
                <a:ext cx="1164960" cy="137160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94440" y="3505320"/>
                <a:ext cx="1095480" cy="1447560"/>
              </a:xfrm>
              <a:prstGeom prst="rect">
                <a:avLst/>
              </a:prstGeom>
              <a:solidFill>
                <a:srgbClr val="00008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46720" y="3352680"/>
                <a:ext cx="1371600" cy="14479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pco_view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ex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41960" y="1066680"/>
                <a:ext cx="3159000" cy="1067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br>
                  <a:rPr sz="2400"/>
                </a:b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cddata_dll.dll,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cddata_load.dll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551640" y="2133720"/>
                <a:ext cx="324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 flipH="1">
              <a:off x="3732120" y="19051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770960" y="2514600"/>
              <a:ext cx="1752480" cy="31240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apcaller.e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1360" y="1447560"/>
            <a:ext cx="9068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.ini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BIN\pco.ini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tains all settings for th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CO component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svc-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Standard-Viewer-Configuration fil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.svc.default </a:t>
            </a:r>
            <a:br>
              <a:rPr sz="2000"/>
            </a:b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-&gt; default viewer config, will be copied to tap.svc by tapcaller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7" name=""/>
          <p:cNvSpPr/>
          <p:nvPr/>
        </p:nvSpPr>
        <p:spPr>
          <a:xfrm>
            <a:off x="517680" y="944640"/>
            <a:ext cx="859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PCO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232240" y="1359000"/>
            <a:ext cx="4343400" cy="27144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31720" y="5288040"/>
            <a:ext cx="85946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 configuration f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*.tcc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ITC Officina Sans Book"/>
              </a:rPr>
              <a:t>TAP-Caller-Configuratio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4960" y="990360"/>
            <a:ext cx="8595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Volatile file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have to be build together with the used protocol sta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primitive symbol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tr2ind.tab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able with trace texts - introduced with GPRS_1.3.2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2" name=""/>
          <p:cNvSpPr/>
          <p:nvPr/>
        </p:nvSpPr>
        <p:spPr>
          <a:xfrm>
            <a:off x="608040" y="2514600"/>
            <a:ext cx="859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tailed documen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userguide.doc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pco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pco\pco_user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frame_users_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frame_users_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estplatform_userguide.doc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estplatform_usersguide.d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tapcaller_intro.ppt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this document)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learCase: \gpf\DOC\tapcaller\tapcaller_intro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Maintenance and version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APCaller, TAP and PCO are maintained by the GPF-tea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elivery is usually done inside the gpf.csi file included in the ConfigSpec of each developer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very newest version can be obtained by including gpf_testtools.csi right after “mkbranch xxx” (at least before gpf.csi) in the ConfigSpe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mplaining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an be done directly by using the “moan”-button in the system tray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see \gpf\DOC\moanbtn\mbtn_userguide.do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085160" y="5257800"/>
            <a:ext cx="156204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066320"/>
            <a:ext cx="8594640" cy="499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for running test cases: usually shared memory on one PC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124080"/>
            <a:ext cx="2819160" cy="2498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3124080"/>
            <a:ext cx="2819160" cy="2498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PCall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2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Pane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70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351240" y="2971800"/>
            <a:ext cx="3125520" cy="457200"/>
            <a:chOff x="3351240" y="2971800"/>
            <a:chExt cx="3125520" cy="457200"/>
          </a:xfrm>
        </p:grpSpPr>
        <p:sp>
          <p:nvSpPr>
            <p:cNvPr id="58" name=""/>
            <p:cNvSpPr/>
            <p:nvPr/>
          </p:nvSpPr>
          <p:spPr>
            <a:xfrm flipH="1">
              <a:off x="3352320" y="3429000"/>
              <a:ext cx="31244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51240" y="29718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System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988920" y="4952880"/>
            <a:ext cx="1752840" cy="517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0884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2960" y="5943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208240" y="3505320"/>
            <a:ext cx="4268880" cy="398880"/>
            <a:chOff x="2208240" y="3505320"/>
            <a:chExt cx="4268880" cy="398880"/>
          </a:xfrm>
        </p:grpSpPr>
        <p:sp>
          <p:nvSpPr>
            <p:cNvPr id="64" name=""/>
            <p:cNvSpPr/>
            <p:nvPr/>
          </p:nvSpPr>
          <p:spPr>
            <a:xfrm>
              <a:off x="2208240" y="3581280"/>
              <a:ext cx="42688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7560" y="35053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207880" y="3870360"/>
            <a:ext cx="4267080" cy="398880"/>
            <a:chOff x="2207880" y="3870360"/>
            <a:chExt cx="4267080" cy="398880"/>
          </a:xfrm>
        </p:grpSpPr>
        <p:sp>
          <p:nvSpPr>
            <p:cNvPr id="67" name=""/>
            <p:cNvSpPr/>
            <p:nvPr/>
          </p:nvSpPr>
          <p:spPr>
            <a:xfrm flipH="1">
              <a:off x="2207880" y="4267080"/>
              <a:ext cx="42670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5760" y="387036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Protocol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22440" y="3962520"/>
            <a:ext cx="4952880" cy="990360"/>
            <a:chOff x="1522440" y="3962520"/>
            <a:chExt cx="4952880" cy="990360"/>
          </a:xfrm>
        </p:grpSpPr>
        <p:sp>
          <p:nvSpPr>
            <p:cNvPr id="70" name=""/>
            <p:cNvSpPr/>
            <p:nvPr/>
          </p:nvSpPr>
          <p:spPr>
            <a:xfrm>
              <a:off x="1522440" y="3962520"/>
              <a:ext cx="0" cy="99036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22440" y="4495680"/>
              <a:ext cx="4952880" cy="398880"/>
              <a:chOff x="1522440" y="4495680"/>
              <a:chExt cx="4952880" cy="398880"/>
            </a:xfrm>
          </p:grpSpPr>
          <p:sp>
            <p:nvSpPr>
              <p:cNvPr id="72" name=""/>
              <p:cNvSpPr/>
              <p:nvPr/>
            </p:nvSpPr>
            <p:spPr>
              <a:xfrm>
                <a:off x="3425760" y="4495680"/>
                <a:ext cx="3048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9900"/>
                    </a:solidFill>
                    <a:latin typeface="Times New Roman"/>
                  </a:rPr>
                  <a:t>duplicated primitiv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440" y="4572000"/>
                <a:ext cx="49528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2741760" y="5105520"/>
            <a:ext cx="3733560" cy="398880"/>
            <a:chOff x="2741760" y="5105520"/>
            <a:chExt cx="3733560" cy="398880"/>
          </a:xfrm>
        </p:grpSpPr>
        <p:sp>
          <p:nvSpPr>
            <p:cNvPr id="75" name=""/>
            <p:cNvSpPr/>
            <p:nvPr/>
          </p:nvSpPr>
          <p:spPr>
            <a:xfrm>
              <a:off x="3427560" y="510552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redirected primitiv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1760" y="5181480"/>
              <a:ext cx="37335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95280" y="3429000"/>
            <a:ext cx="912960" cy="99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3040" y="3458880"/>
            <a:ext cx="8594640" cy="30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PC test system side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xecutable using the FRAME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nects using standard OS driv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by tools like xPan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.. and of course by TAP2 &amp; PCO2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"/>
          <p:cNvSpPr/>
          <p:nvPr/>
        </p:nvSpPr>
        <p:spPr>
          <a:xfrm>
            <a:off x="473040" y="1295280"/>
            <a:ext cx="85946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n stack s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est interface entity included i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s corresponding hardware driver for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760" y="3048120"/>
            <a:ext cx="859464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PCO (Point of Control and Observation)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ols cabable to stimulate the protocol stack and display traces and duplicated primitive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ed here for logging and replaying test sessions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"/>
          <p:cNvSpPr/>
          <p:nvPr/>
        </p:nvSpPr>
        <p:spPr>
          <a:xfrm>
            <a:off x="473040" y="1066680"/>
            <a:ext cx="8594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 (Test Application Proces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ogram which executes test cases by sending, receiving and comparing primitives to/from the protocol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760" y="5105520"/>
            <a:ext cx="859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TAPCal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GUI-tool for easy handling TAP and P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89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60240" y="4724280"/>
            <a:ext cx="8582040" cy="1907640"/>
            <a:chOff x="660240" y="4724280"/>
            <a:chExt cx="8582040" cy="1907640"/>
          </a:xfrm>
        </p:grpSpPr>
        <p:sp>
          <p:nvSpPr>
            <p:cNvPr id="94" name=""/>
            <p:cNvSpPr/>
            <p:nvPr/>
          </p:nvSpPr>
          <p:spPr>
            <a:xfrm>
              <a:off x="4043520" y="5257800"/>
              <a:ext cx="519876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0240" y="4724280"/>
              <a:ext cx="288792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win, Nucleus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43520" y="4724280"/>
              <a:ext cx="418464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1560" y="6095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59360" y="6172200"/>
              <a:ext cx="181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win, Nucleu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43520" y="4724280"/>
            <a:ext cx="418464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10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156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74080" y="3657600"/>
            <a:ext cx="93816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26360" y="3505320"/>
            <a:ext cx="86832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The software layers: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484960" y="914400"/>
            <a:ext cx="2819160" cy="3505320"/>
            <a:chOff x="5484960" y="914400"/>
            <a:chExt cx="2819160" cy="3505320"/>
          </a:xfrm>
        </p:grpSpPr>
        <p:grpSp>
          <p:nvGrpSpPr>
            <p:cNvPr id="118" name=""/>
            <p:cNvGrpSpPr/>
            <p:nvPr/>
          </p:nvGrpSpPr>
          <p:grpSpPr>
            <a:xfrm>
              <a:off x="5484960" y="914400"/>
              <a:ext cx="2819160" cy="3505320"/>
              <a:chOff x="5484960" y="914400"/>
              <a:chExt cx="2819160" cy="3505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478640" y="3352680"/>
                <a:ext cx="825480" cy="10670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vie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484960" y="914400"/>
                <a:ext cx="267804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CCDed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46920" y="1523880"/>
                <a:ext cx="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865840" y="1523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99120" y="1905120"/>
            <a:ext cx="4048200" cy="3352680"/>
            <a:chOff x="5199120" y="1905120"/>
            <a:chExt cx="4048200" cy="3352680"/>
          </a:xfrm>
        </p:grpSpPr>
        <p:grpSp>
          <p:nvGrpSpPr>
            <p:cNvPr id="124" name=""/>
            <p:cNvGrpSpPr/>
            <p:nvPr/>
          </p:nvGrpSpPr>
          <p:grpSpPr>
            <a:xfrm>
              <a:off x="5199120" y="1905120"/>
              <a:ext cx="1898640" cy="2819160"/>
              <a:chOff x="5199120" y="1905120"/>
              <a:chExt cx="1898640" cy="2819160"/>
            </a:xfrm>
          </p:grpSpPr>
          <p:sp>
            <p:nvSpPr>
              <p:cNvPr id="125" name=""/>
              <p:cNvSpPr/>
              <p:nvPr/>
            </p:nvSpPr>
            <p:spPr>
              <a:xfrm>
                <a:off x="5199120" y="1905120"/>
                <a:ext cx="90792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Times New Roman"/>
                  </a:rPr>
                  <a:t>TAP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167520" y="3657600"/>
                <a:ext cx="93024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8352000" y="1905120"/>
              <a:ext cx="895320" cy="33526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al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Build of necessary executabl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0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before testing some executables have to be (re)build after each run of makcd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440" y="281952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he protocol stack – in any case ;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9440" y="3429000"/>
            <a:ext cx="8991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ap2_{gprs|gsm}.ex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tap2_xxx.e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ld TAP for usage without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40000" indent="-20556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gnumake in \gpf\T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9440" y="4952880"/>
            <a:ext cx="8991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ccddata_dll.dll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(ClearCase: \gpf\BIN\ccddata_dll.d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sed by new TAP2 (tap2.exe) and PC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ITC Officina Sans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utomatically build by makcdg-scri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TAPCaller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preparation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020600"/>
            <a:ext cx="8991720" cy="111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ITC Officina Sans Book"/>
              </a:rPr>
              <a:t>Optional modification of test cases:</a:t>
            </a:r>
            <a:endParaRPr b="0" lang="en-US" sz="3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379440" y="1676520"/>
            <a:ext cx="89917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069"/>
                </a:solidFill>
                <a:latin typeface="ITC Officina Sans Book"/>
              </a:rPr>
              <a:t>To receive not only traces but also duplicated primitives while testing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27160" y="2666880"/>
            <a:ext cx="9372600" cy="3429000"/>
            <a:chOff x="227160" y="2666880"/>
            <a:chExt cx="9372600" cy="3429000"/>
          </a:xfrm>
        </p:grpSpPr>
        <p:sp>
          <p:nvSpPr>
            <p:cNvPr id="138" name=""/>
            <p:cNvSpPr/>
            <p:nvPr/>
          </p:nvSpPr>
          <p:spPr>
            <a:xfrm>
              <a:off x="227160" y="4114800"/>
              <a:ext cx="43434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9440" y="2666880"/>
              <a:ext cx="8915400" cy="11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0063ce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3069"/>
                  </a:solidFill>
                  <a:latin typeface="ITC Officina Sans Book"/>
                </a:rPr>
                <a:t>... extra system primitives have to be inserted into the test document (e.g. l2r_steps.cp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3720" y="3809880"/>
              <a:ext cx="44960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”L2R DUPLICATE MMI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L2R REDIRECT MMI TAP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|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|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DUPLICATE TAP PCO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COMMAND (“TAP REDIRECT TAP L2R”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0560" y="48769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onny Kiessling</cp:lastModifiedBy>
  <cp:lastPrinted>2002-01-14T14:27:16Z</cp:lastPrinted>
  <dcterms:modified xsi:type="dcterms:W3CDTF">2003-09-10T20:10:17Z</dcterms:modified>
  <cp:revision>306</cp:revision>
  <dc:subject/>
  <dc:title>xPanel &amp; PCO2</dc:title>
</cp:coreProperties>
</file>